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A6810-73DA-4F41-A043-85617DB216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C27-6D95-4926-95AF-D6DB7259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594-AF45-48D1-A7FE-78ADA453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869-64A3-4379-B3E2-F9EDF181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391-FA19-44D4-9589-81DEE55A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6BA-8C47-4E64-9EC0-71F578C6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415-66E0-472D-A825-58F0A316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C02-D70E-4799-AE9B-F7E6EDED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FED-EEE1-44C3-9D93-497B047E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D00-AB40-495E-A8A0-319CA1BB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F71-2235-4C89-B5D3-7152E795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AD9-A68C-45CF-8890-A06B5ED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E79-BD7E-4501-A1BD-A9F54BE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6B241-70AE-46E8-9D46-823396D47E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20720" y="1979640"/>
            <a:ext cx="8280360" cy="270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endParaRPr b="0" lang="en-US" sz="1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endParaRPr b="0" lang="en-US" sz="1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20720" y="2886120"/>
            <a:ext cx="8459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RIMAVERA</a:t>
            </a:r>
            <a:endParaRPr b="0" lang="en-US" sz="1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246480" y="373212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-1566720"/>
            <a:ext cx="907092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Arial"/>
              </a:rPr>
              <a:t>A primavera chegará, mesmo que ninguém mais saiba seu nome, nem acredite no calendário, nem possua jardim para recebê-la. A inclinação do sol vai marcando outras sombras; e os habitantes da mata, essas criaturas naturais que ainda circulam pelo ar e pelo chão, começam a preparar sua vida para a primavera que che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3280" y="111240"/>
            <a:ext cx="9070920" cy="68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nos clarins que não ouvimos devem soar por dentro da terra, nesse mundo confidencial das raízes, — e arautos sutis acordarão as cores e os perfumes e a alegria de nascer, no espírito das f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á bosques de rododendros que eram verdes e já estão todos cor-de-rosa, como os palácios de Jeipur. Vozes novas de passarinhos começam a ensaiar as árias tradicionais de sua nação. Pequenas borboletas brancas e amarelas apressam-se pelos ares, — e certamente conversam: mas tão baixinho que não se ente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420e"/>
                </a:solidFill>
                <a:latin typeface="Arial"/>
              </a:rPr>
              <a:t>Oh! Primaveras distantes, depois do branco e deserto inverno, quando as amendoeiras inauguram suas flores, alegremente, e todos os olhos procuram pelo céu o primeiro raio de s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b8ff"/>
                </a:solidFill>
                <a:latin typeface="Arial"/>
              </a:rPr>
              <a:t>Esta é uma primavera diferente, com as matas intactas, as árvores cobertas de folhas, — e só os poetas, entre os humanos, sabem que uma Deusa chega, coroada de flores, com vestidos bordados de flores, com os braços carregados de flores, e vem dançar neste mundo cálido, de incessante lu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0000"/>
                </a:solidFill>
                <a:latin typeface="Arial"/>
              </a:rPr>
              <a:t>Mas é certo que a primavera chega. É certo que a vida não se esquece, e a terra maternalmente se enfeita para as festas da sua perpetu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0000"/>
                </a:solidFill>
                <a:latin typeface="Arial"/>
              </a:rPr>
              <a:t>Algum dia, talvez, nada mais vai ser assim. Algum dia, talvez, os homens terão a primavera que desejarem, no momento que quiserem, independentes deste ritmo, desta ordem, deste movimento do céu. E os pássaros serão outros, com outros cantos e outros hábitos, — e os ouvidos que por acaso os ouvirem não terão nada mais com tudo aquilo que, outrora se entendeu e am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e6e6e6"/>
                </a:solidFill>
                <a:latin typeface="Arial"/>
              </a:rPr>
              <a:t>Enquanto há primavera, esta primavera natural, prestemos atenção ao sussurro dos passarinhos novos, que dão beijinhos para o ar azul. Escutemos estas vozes que andam nas árvores, caminhemos por estas estradas que ainda conservam seus sentimentos antigos: lentamente estão sendo tecidos os manacás roxos e brancos; e a eufórbia se vai tornando pulquérrima, em cada coroa vermelha que desdobra. Os casulos brancos das gardênias ainda estão sendo enrolados em redor do perfume. E flores agrestes acordam com suas roupas de chita multic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23ff23"/>
                </a:solidFill>
                <a:latin typeface="Arial"/>
              </a:rPr>
              <a:t>Tudo isto para brilhar um instante, apenas, para ser lançado ao vento, — por fidelidade à obscura semente, ao que vem, na rotação da eternidade. Saudemos a primavera, dona da vida — e efê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01:07Z</dcterms:created>
  <dc:creator/>
  <dc:description/>
  <dc:language>en-US</dc:language>
  <cp:lastModifiedBy/>
  <cp:revision>1</cp:revision>
  <dc:subject/>
  <dc:title/>
</cp:coreProperties>
</file>